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D8CF-345F-4723-AE24-220CC86B0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A4D5-1035-456C-9392-DA47231C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3516F-E380-4A8E-8461-8497EBE3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2AA98-8B75-4C8A-B56D-48DD6869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E61AF-7B7E-471F-9622-6D3C8EFC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8BC74-C220-4B02-9C54-A49D51C9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4DB0E-A36F-423C-95F3-8053A284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DDCFF-9725-4262-B4D9-C09D04D4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3A829-A8B1-42EB-8CAD-C2F51B06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BA54E-CCC4-41E2-9CFC-001966DF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A8954-5B4A-44C8-9AFD-F227D51AF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2FEEC-7C19-471E-B56B-5A3286CD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BC01-F5AF-42F1-8447-E546A06A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57330-D178-478B-B84B-711AE146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A2C7F-27DE-48CC-AD79-734B0119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D3670-37EF-40EF-9E40-E1933DFD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8B013-6F97-4517-A56F-640745CE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3585E-2C75-489F-BBBE-BF0E9756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AFED2-963D-4B5F-8C78-8FEF6FD9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5056D8-AE1F-439F-81A3-9DF1B2D1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D7068-A294-44A0-8693-4A22A5BD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BB089-C954-4256-B366-4E93BB68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F0280-74DF-4EE9-B6DB-D8CA2A04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869C-DCB6-4BBA-9C2D-B62243A1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B7420-95B6-4BA8-8FB7-9B3D01561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BB953-8AAC-4CF7-971B-7C5262D15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D207D-DA15-445B-8358-B37B2A52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03250-DB5C-4CAD-A593-6F7898A5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79CD6-8B6E-44A7-BAA5-FFEB6643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B4917-1A63-4C47-926F-50C681EC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83C4C-FEA7-4372-A55A-7AAB65A0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19E21-8E71-4296-9F59-7616B48D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0603F-CC43-4062-A7F0-C3338802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FFBCA-E01E-4AC2-B127-04E00EA9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2287-B1BF-4633-9A0B-35AF2C9D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BCBBA-7923-4289-9519-1286C931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D82BB-C6A5-4262-A28B-AB669823E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104CA-E754-4F4C-929E-B4CA87AC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03804E-0F66-48E3-A3B6-1C5CD54A3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B8ADC-F44C-4397-833D-80813E59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E21AA8-E84C-4CBB-9517-98C60DE9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20498-7DC7-42B1-962A-4B5FB651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7DBF81-082D-45E2-B909-BE16D966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B7D70-6E12-4B13-BCB9-F6E3A365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23DD8E-7D95-4705-8C30-B1466F37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7905-4F16-4A68-8E20-365B9461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D7213C-9531-49DF-9342-B2755308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24EA4-DA66-4F24-930C-67F07873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1BFED-D796-4F28-8115-3298659D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E6EE9E-9CCA-4DD4-870C-439086C74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B03F4-BD00-4BB0-A5A4-8CBAEBD4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F5CD2A-4867-442A-8BBD-32E6D234B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FEDD99-ADE6-4C5D-BC8C-0849EC8F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C7B262-1662-46FC-ABA9-E565C4DF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B8E680-7821-42A5-AB20-E5A06224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8CC380-E960-4AC8-A418-71E8DB72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2EC7-6C45-41E6-A860-64167A43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242272-8EC8-48D5-83ED-ADD5B814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19C37C-E104-4A7B-8486-F3CF158A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0D835F-F7CE-4C35-AD92-89DBA925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1F1C96-6340-43AD-8041-8142B67F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6A6B6F-8DE6-4AC4-853F-C20A7BC2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8E89C6-950C-4075-BD98-93D1DA21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E20273-2BF1-4035-89D7-5F98F394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9F0D9D-F449-4825-A23F-FBE50E684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31CECB-4381-41FF-AD3E-46400C43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8BCDE1-1A82-4E43-A1D2-0C5239A5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E39B-F41A-4B98-9EF1-75B8C2FD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0E6F95-E46B-4268-9B49-8005E3B9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905160-6423-45EF-A286-115CFFC4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E2944F-AF1E-4984-BEEB-3F4A0849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BB8658-BD8E-4CBB-8CAE-7C9D80D9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0BF939-248A-4345-B696-829325F5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414287-9463-47F5-B3CE-37C6705E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D0770E-B06E-4B26-8527-FFF2DB78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F1D41B-5CA9-4727-8FA9-AE9D2E62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1D4C9D-A34E-4C4A-BE23-FFB62870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61CED6-6F78-424F-91C6-B1A91625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41C8-14E5-4690-9610-DAC5B869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6E2AAE-3EB3-46D5-A6BC-B20E0D77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AC517B-8F19-40D0-8B9B-1DC7A3CB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CA9D7C-636E-4CDF-9B76-11B6E285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AEE49A-E39B-41A2-800E-0FEC5888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0C9DB1-9B07-4116-B1B4-DCB72E09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FE601E-F7EC-4B8A-B156-72110539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E761AF-8B4F-4371-8073-ED52CFBD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748789-1A96-434C-AD27-67B86EDC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93D43C-C9C7-41DA-8311-8299F992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426048-3B78-4850-8843-19ECAFE81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8B4A-3962-468D-A316-C048886B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8D547F-4603-499D-A9F2-66E5F856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330E-CCE2-4B4D-8633-9CAC6AA0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7209-68E8-4298-B5A6-34669A0A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D954-2468-419B-9EF8-DF1ED9CD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9B20-4CFF-4082-900D-7B818DB2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CE0F-B2FE-4230-A974-BCBEC13E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BD3D-8B4C-4DEF-A32E-8DD0AAF0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1418-F244-4883-A9C9-6C406CB6F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48E87-6628-4A29-99F7-E46389BD9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1F9FB-B411-4F86-9CDD-2FDF4A83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97B5D-F5F3-408F-9867-5816682F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FD094-3AC3-4A13-852F-43D1B406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7457D-7BEA-40D3-A933-9ADE57C8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E53E-D3DA-4594-B2B7-1BE9DE5B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43A83-47EB-4BB4-9C90-C486CE59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D114F-A474-48D6-AC73-06F7E488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23007-8DE2-48F9-8449-94C04B35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AD045-AB5B-4751-A1D7-C1B72492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D6185-2EC1-40C7-BD5A-16541C6E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0DF9D-6BF5-4CE5-8CFD-DC41C2BEB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0FA1C-E58C-4B45-9E89-7B63F7A0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72AFC-0A82-46AC-86C7-1FB25BE4A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677E1-4D2A-4AD1-BA98-F166CDC3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8C26D-EABD-4C8E-B2F9-8F2A95BE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087B-64D1-4863-ABE2-AED916D3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FE66D-4BED-4D73-8EF3-0DB41B0F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55C2E-F71B-44E5-B8EB-F8728603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8AB75-A089-4CFD-96F6-0D6909E4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F067D-20CC-458E-980E-5D303F9A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80A0C-44E7-452E-AD96-8D764B7C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FDBB0-3F78-490B-9511-0B7A94A7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BA9D5-E391-441D-BA08-1F832EE3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67C11-7931-45CB-AF69-36FC3681F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2379B-8F24-41DB-816E-DFB9D1F35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F15FB-E194-428D-9056-7220E06B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CC2B-7A1B-41E1-B332-37228A5A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B6FCA-573C-414D-A139-FCB49251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5E65F-F863-49A1-BE60-373FC681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119A5-FD4B-45B7-8AAA-C6732B46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2542E-D2C4-400B-9199-932CE9A6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79153-03DA-4D90-A045-746BEC7B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292AE-46B8-42C9-8006-20C2D862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AA9A7-DA01-4A03-8867-49FED64C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C9D73-92CD-4831-8467-85320D5B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AED2C-9274-42AC-8A23-1022524E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26296-915B-4B07-B8FC-77312BC6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E0A2-9DD8-436B-AEEB-8AFE9969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18B57-9897-44D3-B096-C0066255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BE06B-ABD8-46B9-9396-EC3D0FF5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1DA70-E412-42D6-BEB8-49E39CCC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F7F8F-C7B9-4C36-B17D-CF9C7F29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3C86A-958D-4C58-8DA5-820E6761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0636A-5790-4DC5-A6C7-229BA7FA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AAF85-F273-4D27-BE02-DEA0B3DA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1DBEB-D69F-469D-A298-0AF69FA4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499A9-9EAC-479C-B037-001302E1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8A5EE-8053-4579-B2B7-7A10E358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529F-1C47-4915-814B-C2364AEC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86CB2-0619-4ADD-945A-D599A2ED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39576-E159-4CD1-A8C6-956E89CE0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2DA61-C7E1-4D75-A27B-BA10CDB5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60A91-83AD-4309-8B8B-5B1A1D8EB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45486-FF6D-4586-9664-C3AC01A6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E47B7-C8C9-40ED-91FC-418F8C27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E8961-ABD3-4F5B-9A81-AC03C614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93277-3016-45A3-BD92-BD38BCA3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ED8F8-E827-449D-A84D-4472A5C4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06114-9DC5-4B92-BF88-20AB5EC1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380B-B556-48D8-825A-3D65111D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76300-4F0E-4E2B-BFFF-DD99126C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A33A4-0BEB-4878-8AEF-145AD0D9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82D74-A258-4459-8FA1-40416F1F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D4B32-29B5-4B43-BAF9-56AC0D14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73BED-188B-45A8-954E-19F57807B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011C2-7FB0-4479-8757-4F11E641E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5CA21-1693-48DE-A9A9-4C1D02F0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2ACAF-8EA5-4A09-B83F-295D451A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E2840-2217-4D04-9425-ED030677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B4C72-84C3-48DD-9449-9093149D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15F6-9D4B-42A8-826A-86982F71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3B7AC-8F0D-45EC-B968-27828188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FDF84-AD25-45CE-B9A4-43AD396F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28A4B-9150-4313-8A28-40E99BDC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0B8CB-4B70-477C-8E67-5D2B5970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9B736-1A87-473B-A6D1-251DA4B0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2603F-2538-4565-8BE3-FD3514519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39997-DBCC-4765-9921-A62715D33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0E927-1D3A-4F22-AFE0-C91789B2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E40A6-4843-4649-8FFF-BC943C23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3D070-5516-40C1-BDBE-B84B5027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91C90A-B62A-44CB-B4FB-DF5A806206FA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0A7A5E-C5F3-4C18-8EF1-792CDEC46F27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6" descr="Overlay-FullBackground.jpg"/>
          <p:cNvPicPr/>
          <p:nvPr/>
        </p:nvPicPr>
        <p:blipFill>
          <a:blip r:embed="rId3"/>
          <a:srcRect l="50002" t="0" r="0" b="0"/>
          <a:stretch/>
        </p:blipFill>
        <p:spPr>
          <a:xfrm>
            <a:off x="4572000" y="468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rot="16200000">
            <a:off x="10864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2666520" y="6356520"/>
            <a:ext cx="162252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B5A791-A323-4012-A014-D1EB265B42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240840" y="6356520"/>
            <a:ext cx="189252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1891800" y="5748480"/>
            <a:ext cx="762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000000"/>
                </a:solidFill>
                <a:latin typeface="Perpetua Titling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9EA7C1-576A-44ED-B52C-5CC80AD5313E}" type="slidenum">
              <a:rPr b="0" lang="en-US" sz="3600" spc="-1" strike="noStrike">
                <a:solidFill>
                  <a:srgbClr val="000000"/>
                </a:solidFill>
                <a:latin typeface="Perpetua Titling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6" descr="Overlay-FullBackground.jpg"/>
          <p:cNvPicPr/>
          <p:nvPr/>
        </p:nvPicPr>
        <p:blipFill>
          <a:blip r:embed="rId3"/>
          <a:srcRect l="50002" t="0" r="0" b="0"/>
          <a:stretch/>
        </p:blipFill>
        <p:spPr>
          <a:xfrm>
            <a:off x="4572000" y="468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rot="16200000">
            <a:off x="10864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2670120" y="6356520"/>
            <a:ext cx="162720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0B20B5-4B46-4753-8598-2514DF6E55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240840" y="6356520"/>
            <a:ext cx="189396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1892160" y="5738760"/>
            <a:ext cx="7588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000000"/>
                </a:solidFill>
                <a:latin typeface="Perpetua Titling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37E89C-04FE-4BFF-B25B-E8F3E879012E}" type="slidenum">
              <a:rPr b="0" lang="en-US" sz="3600" spc="-1" strike="noStrike">
                <a:solidFill>
                  <a:srgbClr val="000000"/>
                </a:solidFill>
                <a:latin typeface="Perpetua Titling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6" descr="Overlay-FullBackground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BD4E72-ADFE-432E-87B4-F9DD15D7C4BF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D620D2-0076-4BE8-99E7-11F62B7906BF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7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4566A8-C031-427C-AF25-17BF8DF44A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8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B59807-C073-4E7D-8C51-98D89DFB7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40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B0E164-3E11-415E-8429-B861022AEF1E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41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4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1FF413-4B92-4E84-A2C3-B1BA5A1D4D35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6" descr="Overlay-FullBackground.jpg"/>
          <p:cNvPicPr/>
          <p:nvPr/>
        </p:nvPicPr>
        <p:blipFill>
          <a:blip r:embed="rId3"/>
          <a:srcRect l="0" t="0" r="14720" b="0"/>
          <a:stretch/>
        </p:blipFill>
        <p:spPr>
          <a:xfrm>
            <a:off x="0" y="4680"/>
            <a:ext cx="7797960" cy="68580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flipH="1" rot="5400000">
            <a:off x="44218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43"/>
          </p:nvPr>
        </p:nvSpPr>
        <p:spPr>
          <a:xfrm>
            <a:off x="7924680" y="6356520"/>
            <a:ext cx="10670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CDDFF9-6E87-4B42-B679-CB45BDD2D95C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44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45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68EF3E-629A-4AB1-B689-9F02B4E61EBE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Overlay-FullBackground.jpg"/>
          <p:cNvPicPr/>
          <p:nvPr/>
        </p:nvPicPr>
        <p:blipFill>
          <a:blip r:embed="rId3"/>
          <a:srcRect l="0" t="50005" r="0" b="0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overlay-ruleShadow.png"/>
          <p:cNvPicPr/>
          <p:nvPr/>
        </p:nvPicPr>
        <p:blipFill>
          <a:blip r:embed="rId4"/>
          <a:stretch/>
        </p:blipFill>
        <p:spPr>
          <a:xfrm>
            <a:off x="0" y="3303720"/>
            <a:ext cx="9144000" cy="125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C441F1-5575-4321-866F-9CEB93DC55BD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9760B6-E527-484F-92F5-E8880FDEB5B2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284381-92E5-43CD-8330-4ACC0FE97703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AA71F3-8486-4212-8A20-4B9D206FE2DA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Overlay-FullBackground.jpg"/>
          <p:cNvPicPr/>
          <p:nvPr/>
        </p:nvPicPr>
        <p:blipFill>
          <a:blip r:embed="rId3"/>
          <a:srcRect l="0" t="50005" r="0" b="0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overlay-ruleShadow.png"/>
          <p:cNvPicPr/>
          <p:nvPr/>
        </p:nvPicPr>
        <p:blipFill>
          <a:blip r:embed="rId4"/>
          <a:stretch/>
        </p:blipFill>
        <p:spPr>
          <a:xfrm>
            <a:off x="0" y="3303720"/>
            <a:ext cx="9144000" cy="125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B89306-9A58-4CFA-85AE-4A7343981348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434EF0-AA7C-4377-B4EA-806DAAF31694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4446720"/>
            <a:ext cx="9144000" cy="125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Overlay-FullBackground.jpg"/>
          <p:cNvPicPr/>
          <p:nvPr/>
        </p:nvPicPr>
        <p:blipFill>
          <a:blip r:embed="rId4"/>
          <a:srcRect l="0" t="66668" r="0" b="0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8F3E31-2BBC-44B6-A9FE-811D04B6E184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B17913-FD79-4413-B749-DBD8E5DE4F76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5EA8DC-8153-4945-B961-E366B4397670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FB169D-CB82-445C-A343-F187A620C96A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59CDC7-AEE4-4EC9-A328-AF858381322D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6B8875-E532-4B04-BF04-57847F959F29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Overlay-FullBackground.jpg"/>
          <p:cNvPicPr/>
          <p:nvPr/>
        </p:nvPicPr>
        <p:blipFill>
          <a:blip r:embed="rId4"/>
          <a:srcRect l="0" t="21048" r="0" b="0"/>
          <a:stretch/>
        </p:blipFill>
        <p:spPr>
          <a:xfrm>
            <a:off x="0" y="1447920"/>
            <a:ext cx="9144000" cy="541476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C87FFC-D6E4-4ACB-A703-B4AAFF49179B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705F5C-F31E-4B08-A515-6EC0276377BE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6" descr="Overlay-FullBackground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F4C073-9D2B-459C-936E-7B94BEC457E2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A72007-A01C-40DC-9BBC-9D554D93B907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79040" y="1917360"/>
            <a:ext cx="7583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Lifting and moving patients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779040" y="3478320"/>
            <a:ext cx="7583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Perpetua Titling MT"/>
              </a:rPr>
              <a:t>Stop and Review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1080" indent="-27108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1.What is the most common source of back injuries?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marL="271080" indent="-27108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2.What is defined as the proper or most efficient way to perform physical activity?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marL="271080" indent="-27108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3.It is always better to __________ rather than __________.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marL="271080" indent="-27108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4.Proper lifting requires: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54400" indent="-283320"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Calisto MT"/>
              </a:rPr>
              <a:t>A. Lifting with the _____________ </a:t>
            </a:r>
            <a:endParaRPr b="0" lang="en-US" sz="2200" spc="-1" strike="noStrike">
              <a:solidFill>
                <a:srgbClr val="333333"/>
              </a:solidFill>
              <a:latin typeface="Calisto MT"/>
            </a:endParaRPr>
          </a:p>
          <a:p>
            <a:pPr lvl="1" marL="554400" indent="-283320"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Calisto MT"/>
              </a:rPr>
              <a:t>B. Bending at the _____________ </a:t>
            </a:r>
            <a:endParaRPr b="0" lang="en-US" sz="2200" spc="-1" strike="noStrike">
              <a:solidFill>
                <a:srgbClr val="333333"/>
              </a:solidFill>
              <a:latin typeface="Calisto MT"/>
            </a:endParaRPr>
          </a:p>
          <a:p>
            <a:pPr lvl="1" marL="554400" indent="-283320"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Calisto MT"/>
              </a:rPr>
              <a:t>C. Keeping the back ___________</a:t>
            </a:r>
            <a:endParaRPr b="0" lang="en-US" sz="2200" spc="-1" strike="noStrike">
              <a:solidFill>
                <a:srgbClr val="333333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Perpetua Titling MT"/>
              </a:rPr>
              <a:t>I. Back Injuries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Anatomy review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Calisto MT"/>
              </a:rPr>
              <a:t>1. Lumbar spine bears weight of body; 85% of back injuries occur there</a:t>
            </a:r>
            <a:endParaRPr b="0" lang="en-US" sz="22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Calisto MT"/>
              </a:rPr>
              <a:t>2. Discs between vertebrae may deteriorate, move, or slip out of place</a:t>
            </a:r>
            <a:endParaRPr b="0" lang="en-US" sz="22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Calisto MT"/>
              </a:rPr>
              <a:t>3. Injuries can result from improper lifting and carrying</a:t>
            </a:r>
            <a:endParaRPr b="0" lang="en-US" sz="2200" spc="-1" strike="noStrike">
              <a:solidFill>
                <a:srgbClr val="333333"/>
              </a:solidFill>
              <a:latin typeface="Calisto MT"/>
            </a:endParaRPr>
          </a:p>
        </p:txBody>
      </p:sp>
      <p:pic>
        <p:nvPicPr>
          <p:cNvPr id="643" name="Picture 3" descr="safety.jpg"/>
          <p:cNvPicPr/>
          <p:nvPr/>
        </p:nvPicPr>
        <p:blipFill>
          <a:blip r:embed="rId2"/>
          <a:stretch/>
        </p:blipFill>
        <p:spPr>
          <a:xfrm>
            <a:off x="3521160" y="4135320"/>
            <a:ext cx="19954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Perpetua Titling MT"/>
              </a:rPr>
              <a:t>I. Back Injuries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Back care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Calisto MT"/>
              </a:rPr>
              <a:t>1. Most common source of back injuries is twisting while lifting an object</a:t>
            </a:r>
            <a:endParaRPr b="0" lang="en-US" sz="22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Calisto MT"/>
              </a:rPr>
              <a:t>2. Key to a strong back is exercise</a:t>
            </a:r>
            <a:endParaRPr b="0" lang="en-US" sz="22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Calisto MT"/>
              </a:rPr>
              <a:t>3. To prevent injury, warm up the lower back before each tour of duty</a:t>
            </a:r>
            <a:endParaRPr b="0" lang="en-US" sz="2200" spc="-1" strike="noStrike">
              <a:solidFill>
                <a:srgbClr val="333333"/>
              </a:solidFill>
              <a:latin typeface="Calisto MT"/>
            </a:endParaRPr>
          </a:p>
        </p:txBody>
      </p:sp>
      <p:pic>
        <p:nvPicPr>
          <p:cNvPr id="646" name="Picture 3" descr="stretch.jpg"/>
          <p:cNvPicPr/>
          <p:nvPr/>
        </p:nvPicPr>
        <p:blipFill>
          <a:blip r:embed="rId2"/>
          <a:stretch/>
        </p:blipFill>
        <p:spPr>
          <a:xfrm>
            <a:off x="4851360" y="3857760"/>
            <a:ext cx="29084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Perpetua Titling MT"/>
              </a:rPr>
              <a:t>I. Back Injuries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. Know your limitations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Calisto MT"/>
              </a:rPr>
              <a:t>1. Two key questions </a:t>
            </a:r>
            <a:endParaRPr b="0" lang="en-US" sz="22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6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sto MT"/>
              </a:rPr>
              <a:t>a. Is there enough help to lift this patient?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sto MT"/>
              </a:rPr>
              <a:t>One individual should be able to lift 125 lbs! </a:t>
            </a:r>
            <a:endParaRPr b="0" lang="en-US" sz="18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6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sto MT"/>
              </a:rPr>
              <a:t>b. Is the right equipment being used?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sto MT"/>
              </a:rPr>
              <a:t>Be sure to factor in that weight too!</a:t>
            </a:r>
            <a:endParaRPr b="0" lang="en-US" sz="18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Calisto MT"/>
              </a:rPr>
              <a:t>2. Failure to answer the questions correctly can cause injury to the patient or healthcare worker.</a:t>
            </a:r>
            <a:endParaRPr b="0" lang="en-US" sz="2200" spc="-1" strike="noStrike">
              <a:solidFill>
                <a:srgbClr val="333333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Perpetua Titling MT"/>
              </a:rPr>
              <a:t>I. Back Injuries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D. Safety firs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Calisto MT"/>
              </a:rPr>
              <a:t>1. Back support braces </a:t>
            </a:r>
            <a:endParaRPr b="0" lang="en-US" sz="22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6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sto MT"/>
              </a:rPr>
              <a:t>a. Must be worn correctly 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6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sto MT"/>
              </a:rPr>
              <a:t>b. Must fit correctly 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Calisto MT"/>
              </a:rPr>
              <a:t>2. Proper footwear </a:t>
            </a:r>
            <a:endParaRPr b="0" lang="en-US" sz="22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6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sto MT"/>
              </a:rPr>
              <a:t>a. Closed-toe shoes or boots 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6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sto MT"/>
              </a:rPr>
              <a:t>b. Soles should be nonskid 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6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sto MT"/>
              </a:rPr>
              <a:t>c. Mid-calf boots provide support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</p:txBody>
      </p:sp>
      <p:pic>
        <p:nvPicPr>
          <p:cNvPr id="651" name="Picture 3" descr="back brace.jpg"/>
          <p:cNvPicPr/>
          <p:nvPr/>
        </p:nvPicPr>
        <p:blipFill>
          <a:blip r:embed="rId2"/>
          <a:stretch/>
        </p:blipFill>
        <p:spPr>
          <a:xfrm>
            <a:off x="6161040" y="237636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Perpetua Titling MT"/>
              </a:rPr>
              <a:t>II. Body Mechanics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A. Defined: The proper or most efficient way to perform physical activities.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B. The primary goal is to lift and carry without injury to spine.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pic>
        <p:nvPicPr>
          <p:cNvPr id="654" name="Picture 3" descr="body mechanics.jpg"/>
          <p:cNvPicPr/>
          <p:nvPr/>
        </p:nvPicPr>
        <p:blipFill>
          <a:blip r:embed="rId2"/>
          <a:stretch/>
        </p:blipFill>
        <p:spPr>
          <a:xfrm>
            <a:off x="2693880" y="3289320"/>
            <a:ext cx="566892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Perpetua Titling MT"/>
              </a:rPr>
              <a:t>II. Body Mechanics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. Reaching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Calisto MT"/>
              </a:rPr>
              <a:t>1. Never twist and arch the back backward</a:t>
            </a:r>
            <a:endParaRPr b="0" lang="en-US" sz="22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Calisto MT"/>
              </a:rPr>
              <a:t>2. Never reach more than18 inches away from the body</a:t>
            </a:r>
            <a:endParaRPr b="0" lang="en-US" sz="22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Calisto MT"/>
              </a:rPr>
              <a:t>3. Keep elbows close to the body and never farther out than the knees</a:t>
            </a:r>
            <a:endParaRPr b="0" lang="en-US" sz="22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Calisto MT"/>
              </a:rPr>
              <a:t>4. Bend at the knees while keeping the back straight</a:t>
            </a:r>
            <a:endParaRPr b="0" lang="en-US" sz="2200" spc="-1" strike="noStrike">
              <a:solidFill>
                <a:srgbClr val="333333"/>
              </a:solidFill>
              <a:latin typeface="Calisto MT"/>
            </a:endParaRPr>
          </a:p>
        </p:txBody>
      </p:sp>
      <p:pic>
        <p:nvPicPr>
          <p:cNvPr id="657" name="Picture 3" descr="back pain.jpg"/>
          <p:cNvPicPr/>
          <p:nvPr/>
        </p:nvPicPr>
        <p:blipFill>
          <a:blip r:embed="rId2"/>
          <a:stretch/>
        </p:blipFill>
        <p:spPr>
          <a:xfrm>
            <a:off x="6973920" y="4302000"/>
            <a:ext cx="19382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Perpetua Titling MT"/>
              </a:rPr>
              <a:t>II. Body Mechanics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D. Lifting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Calisto MT"/>
              </a:rPr>
              <a:t>1. The power lift </a:t>
            </a:r>
            <a:endParaRPr b="0" lang="en-US" sz="22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6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sto MT"/>
              </a:rPr>
              <a:t>Utilizes the stronger muscles of the leg instead of the weaker muscles of the lower back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6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sto MT"/>
              </a:rPr>
              <a:t>The closer the body’s center of gravity is to the object, the more powerful the lift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6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sto MT"/>
              </a:rPr>
              <a:t>The feet are the foundation of the power lift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6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Calisto MT"/>
              </a:rPr>
              <a:t>2. The power grip </a:t>
            </a:r>
            <a:endParaRPr b="0" lang="en-US" sz="22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6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sto MT"/>
              </a:rPr>
              <a:t>Palms-up grasp utilizes powerful arm muscles 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6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sto MT"/>
              </a:rPr>
              <a:t>The arms should be </a:t>
            </a:r>
            <a:r>
              <a:rPr b="0" i="1" lang="en-US" sz="2000" spc="-1" strike="noStrike">
                <a:solidFill>
                  <a:srgbClr val="333333"/>
                </a:solidFill>
                <a:latin typeface="Calisto MT"/>
              </a:rPr>
              <a:t>locked out</a:t>
            </a:r>
            <a:endParaRPr b="0" lang="en-US" sz="2000" spc="-1" strike="noStrike">
              <a:solidFill>
                <a:srgbClr val="333333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Perpetua Titling MT"/>
              </a:rPr>
              <a:t>II. Body Mechanics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E. Carrying: keep back straight and balance load if on one shoulder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. Always try to push rather than pull.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pic>
        <p:nvPicPr>
          <p:cNvPr id="662" name="Picture 3" descr="emt bag.jpg"/>
          <p:cNvPicPr/>
          <p:nvPr/>
        </p:nvPicPr>
        <p:blipFill>
          <a:blip r:embed="rId2"/>
          <a:stretch/>
        </p:blipFill>
        <p:spPr>
          <a:xfrm>
            <a:off x="5097600" y="3276720"/>
            <a:ext cx="364464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20:34:37Z</dcterms:created>
  <dc:creator>Lauren Wehunt</dc:creator>
  <dc:description/>
  <dc:language>en-US</dc:language>
  <cp:lastModifiedBy>Lauren Wehunt</cp:lastModifiedBy>
  <dcterms:modified xsi:type="dcterms:W3CDTF">2012-08-26T20:54:24Z</dcterms:modified>
  <cp:revision>1</cp:revision>
  <dc:subject/>
  <dc:title>Lifting and moving patients</dc:title>
</cp:coreProperties>
</file>